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FAA-32B9-4A2C-B85F-33BCD8F9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3D2-F64D-4761-8DD7-BE775224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088-E2E9-49C5-BD79-ED202D39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2E3-A4C2-4886-99CA-B423E934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4FE2-FE18-45C9-8118-ED358C1C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857D-179B-44DE-A720-4E7CDA6C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CE4B-6C8D-46F5-A3CE-9EB30833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1F1D-59A2-404C-BAF9-8B89657A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30E2-2006-4998-8D42-5B5EDDD5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30B5-3A06-407D-B2EE-5E5D8A87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C5E6-306F-4099-AB45-8A6D2E75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7A4-E4F1-4D05-96FF-396AFBF6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B7B1-3952-42FF-94DA-41B94B01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ACF7-4625-43B9-8B26-1285FA2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075D-AF1A-4B86-B547-9FD36FCF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4A92-1C5C-4473-B1A8-C52571CA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9889-A0E1-4B44-9E42-C5830E93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D9A-2D36-4D18-BEEC-E7451495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A0B-DDFB-4153-BEE1-66A4AAAB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F4E-CC9F-4E23-A792-EB26A092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580-C958-4B90-9173-2C409393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641-795F-40F1-9DFD-CF50E0AA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8EC-AEED-4407-B277-8F465841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A49-2F0D-4FFB-9444-7F033F8C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3298-D849-4A9A-AEF0-A11C508F2AC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AC60-F994-4307-B7C1-B330F059BAB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678168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100" spc="-1" strike="noStrike">
                <a:solidFill>
                  <a:srgbClr val="330066"/>
                </a:solidFill>
                <a:latin typeface="Arial"/>
              </a:rPr>
              <a:t>Twierdzenie sinusów</a:t>
            </a:r>
            <a:endParaRPr b="1" lang="en-US" sz="5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7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313080" cy="3106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00360" y="122400"/>
            <a:ext cx="350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Twierdzeni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11280" y="177336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 dowolnym trójkącie stosunek długości boku do sinusa kąta przeciwległego jest wielkością stałą i  równą średnicy okręgu opisanego na tym trójką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7"/>
              <p:cNvSpPr txBox="1"/>
              <p:nvPr/>
            </p:nvSpPr>
            <p:spPr>
              <a:xfrm>
                <a:off x="3419640" y="3933720"/>
                <a:ext cx="53179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42920" y="122400"/>
            <a:ext cx="3357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1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66400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788000" y="2492280"/>
                <a:ext cx="29430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7"/>
          <p:cNvSpPr/>
          <p:nvPr/>
        </p:nvSpPr>
        <p:spPr>
          <a:xfrm>
            <a:off x="2843280" y="177336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rzystamy z następującego wzoru na pole trójką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39640" y="3357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równujemy dwa dowolne pola trójkątów wykorzystując powyższy wzó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556000" y="4221000"/>
                <a:ext cx="39812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3276720" y="5229360"/>
                <a:ext cx="2533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4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3"/>
              <p:cNvSpPr txBox="1"/>
              <p:nvPr/>
            </p:nvSpPr>
            <p:spPr>
              <a:xfrm>
                <a:off x="3564000" y="5661000"/>
                <a:ext cx="19620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42920" y="122400"/>
            <a:ext cx="3357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2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7"/>
              <p:cNvSpPr txBox="1"/>
              <p:nvPr/>
            </p:nvSpPr>
            <p:spPr>
              <a:xfrm>
                <a:off x="338040" y="1197000"/>
                <a:ext cx="3951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8"/>
              <p:cNvSpPr txBox="1"/>
              <p:nvPr/>
            </p:nvSpPr>
            <p:spPr>
              <a:xfrm>
                <a:off x="1085760" y="2060640"/>
                <a:ext cx="2446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9"/>
              <p:cNvSpPr txBox="1"/>
              <p:nvPr/>
            </p:nvSpPr>
            <p:spPr>
              <a:xfrm>
                <a:off x="1360440" y="2565360"/>
                <a:ext cx="19051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Text Box 21"/>
          <p:cNvSpPr/>
          <p:nvPr/>
        </p:nvSpPr>
        <p:spPr>
          <a:xfrm>
            <a:off x="250920" y="357336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rzystając ze wzorów sinusa w trójkącie oraz z własności kąta środkowego i wpisanego, wie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826920" y="5157720"/>
                <a:ext cx="14860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3" name="Picture 24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627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3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3024000" cy="2432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2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1"/>
              <p:cNvSpPr txBox="1"/>
              <p:nvPr/>
            </p:nvSpPr>
            <p:spPr>
              <a:xfrm>
                <a:off x="611280" y="1197000"/>
                <a:ext cx="1828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14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3"/>
              <p:cNvSpPr txBox="1"/>
              <p:nvPr/>
            </p:nvSpPr>
            <p:spPr>
              <a:xfrm>
                <a:off x="539640" y="2276640"/>
                <a:ext cx="18288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16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5"/>
              <p:cNvSpPr txBox="1"/>
              <p:nvPr/>
            </p:nvSpPr>
            <p:spPr>
              <a:xfrm>
                <a:off x="539640" y="2852640"/>
                <a:ext cx="16480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Text Box 17"/>
          <p:cNvSpPr/>
          <p:nvPr/>
        </p:nvSpPr>
        <p:spPr>
          <a:xfrm>
            <a:off x="468360" y="393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8"/>
              <p:cNvSpPr txBox="1"/>
              <p:nvPr/>
            </p:nvSpPr>
            <p:spPr>
              <a:xfrm>
                <a:off x="900000" y="4508640"/>
                <a:ext cx="51120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1:22:23Z</dcterms:created>
  <dc:creator>_foxx</dc:creator>
  <dc:description/>
  <dc:language>en-US</dc:language>
  <cp:lastModifiedBy>AP</cp:lastModifiedBy>
  <dcterms:modified xsi:type="dcterms:W3CDTF">2015-04-07T03:35:13Z</dcterms:modified>
  <cp:revision>14</cp:revision>
  <dc:subject/>
  <dc:title>Twierdzenie sinusów</dc:title>
</cp:coreProperties>
</file>